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0CF0-6A5E-4321-A01B-911F93D1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175D-35EA-414B-9862-743C60C80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6DED-F627-4911-9EFC-7FEB0C2F9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7337-D4E1-403C-A272-C15F9274D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821F-A7ED-471C-8CA6-462561ED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733-A6A6-4884-823C-11BCC954C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FE27-5E26-4BCD-8108-64BFE31C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1AA0-0603-4FF4-83D5-4F1CAE053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8A88-5CB3-4B8B-896E-E0A2AEF13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9D73-3510-4EFE-983F-38A3B279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266-A663-4276-8433-09831A08B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59EC-CA2C-4119-8C56-E281A5A7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3E5DF-8D87-4330-BB18-C050244FC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5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6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8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1752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9:16:41Z</dcterms:created>
  <dc:creator>DOE</dc:creator>
  <dc:description/>
  <dc:language>en-US</dc:language>
  <cp:lastModifiedBy>DOE</cp:lastModifiedBy>
  <dcterms:modified xsi:type="dcterms:W3CDTF">2009-04-17T15:19:22Z</dcterms:modified>
  <cp:revision>7</cp:revision>
  <dc:subject/>
  <dc:title>Grade 5  Freedom and Democracy Unit Assessment 2009</dc:title>
</cp:coreProperties>
</file>