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CCD9-4B7D-41C2-9328-52C48186F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6A43-3C7B-49DB-AA54-DCE2AB6D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9EB0-3A41-4232-8259-6A34C0E52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D984-94EA-4439-8BC1-B0B2B20FA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6FF4-EA36-4338-B46D-3D31D604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09ED-2A6F-4DA8-859D-01B2DDC3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E320-2DD4-4B5D-ABF0-062E911E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81B5-88ED-409A-BA5F-13801333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847E-1FA8-4435-B588-8F0806A9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43D1-969C-4266-B254-D85814E2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F621-CCDF-4144-816F-52C6E980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1768-00BE-4409-A5C9-0038A449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ADA9-43E5-4B42-983A-73844FD51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de 5 Class Aver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eedom and Democracy Unit Assessment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5680" y="183024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83024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de 6 Class Aver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Freedom and Democracy Unit Assessment 2009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525680" y="183024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83024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de 7 Class Aver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eedom and Democracy Unit Assessment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5680" y="183024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83024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de 8 Class Aver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eedom and Democracy Unit Assessment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525680" y="183024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83024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de Aver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Freedom and Democracy Unit Assessment 2009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600200" y="175248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75248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L Class Aver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eedom and Democracy Unit Assessment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8360" y="1600200"/>
          <a:ext cx="82058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00200"/>
                    <a:ext cx="82058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cial Ed Class Aver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eedom and Democracy Unit Assessment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68360" y="1600200"/>
          <a:ext cx="82058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00200"/>
                    <a:ext cx="82058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9:16:41Z</dcterms:created>
  <dc:creator>DOE</dc:creator>
  <dc:description/>
  <dc:language>en-US</dc:language>
  <cp:lastModifiedBy>DOE</cp:lastModifiedBy>
  <dcterms:modified xsi:type="dcterms:W3CDTF">2009-04-17T15:19:22Z</dcterms:modified>
  <cp:revision>7</cp:revision>
  <dc:subject/>
  <dc:title>Grade 5  Freedom and Democracy Unit Assessment 2009</dc:title>
</cp:coreProperties>
</file>