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B8EDF-A1B6-4730-A56C-9CAF07C6E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26FD7-49AD-4B0E-820C-1709E56FA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616FC-1AF0-4605-84F6-C81504DC2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591C4-1D84-4A08-A93A-1CF03AAA3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D7DC9-B416-4207-824C-0118D0AF8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72CC5-65B2-4D2B-AD41-B0644205F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ED4CC-E8F6-4A0B-90F4-96D22D804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D3AA5-7B5F-432F-BD7C-72213163B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4939E-C9EC-4293-A484-E760EF5C6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7E1D8-5C30-4DDA-AE90-1FE5E2218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BC98A-0FB6-4B28-A67A-4DEA7BBEC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DE2DF-7232-480F-A817-B95D4B138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154C7-977B-466C-B242-E03ED49880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rade 5 Class Average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reedom and Democracy Unit Assessment 200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5680" y="1830240"/>
          <a:ext cx="609120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5680" y="1830240"/>
                    <a:ext cx="609120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rade 6 Class Average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Freedom and Democracy Unit Assessment 2009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1525680" y="1830240"/>
          <a:ext cx="609120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5680" y="1830240"/>
                    <a:ext cx="609120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rade 7 Class Average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reedom and Democracy Unit Assessment 200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5680" y="1830240"/>
          <a:ext cx="609120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5680" y="1830240"/>
                    <a:ext cx="609120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rade 8 Class Average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reedom and Democracy Unit Assessment 200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1525680" y="1830240"/>
          <a:ext cx="609120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5680" y="1830240"/>
                    <a:ext cx="609120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rade Average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Freedom and Democracy Unit Assessment 2009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1600200" y="1752480"/>
          <a:ext cx="609120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1752480"/>
                    <a:ext cx="609120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LL Class Average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reedom and Democracy Unit Assessment 200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468360" y="1600200"/>
          <a:ext cx="820584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600200"/>
                    <a:ext cx="820584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pecial Ed Class Average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reedom and Democracy Unit Assessment 200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68360" y="1600200"/>
          <a:ext cx="820584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600200"/>
                    <a:ext cx="820584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4T19:16:41Z</dcterms:created>
  <dc:creator>DOE</dc:creator>
  <dc:description/>
  <dc:language>en-US</dc:language>
  <cp:lastModifiedBy>DOE</cp:lastModifiedBy>
  <dcterms:modified xsi:type="dcterms:W3CDTF">2009-04-17T15:19:22Z</dcterms:modified>
  <cp:revision>7</cp:revision>
  <dc:subject/>
  <dc:title>Grade 5  Freedom and Democracy Unit Assessment 2009</dc:title>
</cp:coreProperties>
</file>