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CC3-3D1B-4671-B6E0-F8F9E8F9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C9E5-56B2-46CA-BB57-70B0A8C4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23F-9B30-4201-A959-7E89004E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8CC-2CEB-4CC4-BA4B-DEDA79B7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4FE-6821-4E3D-926F-43D65C27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004-E84C-45C8-A1C4-DEE0FE12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3ECF-1D51-47BD-A778-A6A410E1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348-3651-481C-B307-97D2F827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FB15-C917-4015-B8C3-45E54721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A1F-7EE5-4C94-BFC2-8444FF31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F53-97AE-4DFB-99EB-AD459FD1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0B3-FFB5-42C2-B804-2CE10CF6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DCBC-B6BD-4663-AF81-F462E1B6B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5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6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reedom and Democracy Unit Assessment 200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7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8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reedom and Democracy Unit Assessment 200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00200" y="175248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L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60020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 Ed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160020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9:16:41Z</dcterms:created>
  <dc:creator>DOE</dc:creator>
  <dc:description/>
  <dc:language>en-US</dc:language>
  <cp:lastModifiedBy>DOE</cp:lastModifiedBy>
  <dcterms:modified xsi:type="dcterms:W3CDTF">2009-04-17T15:19:22Z</dcterms:modified>
  <cp:revision>7</cp:revision>
  <dc:subject/>
  <dc:title>Grade 5  Freedom and Democracy Unit Assessment 2009</dc:title>
</cp:coreProperties>
</file>