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90A0-F22A-4FA1-9048-B38868ADB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3DDF-C56B-435A-9787-1B688107E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CF6D-CDE2-4C35-BD91-39729E2F3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EA66-8ED4-41FC-8215-5C918AE5E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F76E-B88E-4127-B764-34F97C2A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43B4-B657-4C43-B269-DC5535BF0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3AD-DE5B-4447-8A97-01E55DB1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DA92-A635-4992-B42F-F9F78CC2F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8DB1-14DC-4D6E-B0FC-130B16473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F07A-3EF5-4F1E-906C-6CC437CEA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AFED-B2CE-41DC-81D2-BF88C12A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2844-8A6E-4C71-AD52-28E2F6DB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6F600-BB56-4254-849C-6201C3B74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5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6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7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8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de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Freedom and Democracy Unit Assessment 2009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600200" y="175248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L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cial Ed Class Aver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eedom and Democracy Unit Assessment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68360" y="1600200"/>
          <a:ext cx="820584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00200"/>
                    <a:ext cx="8205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19:16:41Z</dcterms:created>
  <dc:creator>DOE</dc:creator>
  <dc:description/>
  <dc:language>en-US</dc:language>
  <cp:lastModifiedBy>DOE</cp:lastModifiedBy>
  <dcterms:modified xsi:type="dcterms:W3CDTF">2009-04-17T15:19:22Z</dcterms:modified>
  <cp:revision>7</cp:revision>
  <dc:subject/>
  <dc:title>Grade 5  Freedom and Democracy Unit Assessment 2009</dc:title>
</cp:coreProperties>
</file>